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3.gif" ContentType="image/gif"/>
  <Override PartName="/ppt/media/image7.png" ContentType="image/png"/>
  <Override PartName="/ppt/media/APPLAUSE.WAV" ContentType="audio/x-wav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21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962520"/>
            <a:ext cx="746784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bcPrint"/>
              </a:rPr>
              <a:t>The big bear can’t get out of the 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little</a:t>
            </a:r>
            <a:r>
              <a:rPr b="0" lang="en-US" sz="4400" spc="-1" strike="noStrike">
                <a:solidFill>
                  <a:srgbClr val="9900cc"/>
                </a:solidFill>
                <a:latin typeface="AbcPrint"/>
              </a:rPr>
              <a:t> ho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190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4419720"/>
            <a:ext cx="69343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The dinosaur has a </a:t>
            </a:r>
            <a:r>
              <a:rPr b="0" lang="en-US" sz="4800" spc="-1" strike="noStrike">
                <a:solidFill>
                  <a:srgbClr val="33cc33"/>
                </a:solidFill>
                <a:latin typeface="AbcPrint"/>
              </a:rPr>
              <a:t>long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ne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4495680"/>
            <a:ext cx="1371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41044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419720"/>
            <a:ext cx="69343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The dinosaur has a </a:t>
            </a:r>
            <a:r>
              <a:rPr b="0" lang="en-US" sz="4800" spc="-1" strike="noStrike">
                <a:solidFill>
                  <a:srgbClr val="33cc33"/>
                </a:solidFill>
                <a:latin typeface="AbcPrint"/>
              </a:rPr>
              <a:t>long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ne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41044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09680" y="23623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wor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aft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ve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22096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litt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lo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He is reading the 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words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in this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457200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35812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He is reading the 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words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in this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35812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962520"/>
            <a:ext cx="7696080" cy="2104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mouse will clean the frog’s teeth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after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he looks in his mo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648320"/>
            <a:ext cx="12956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48006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62520"/>
            <a:ext cx="7696080" cy="21049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The mouse will clean the frog’s teeth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after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he looks in his mo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48006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34340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The bunny found a 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very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big carr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4495680"/>
            <a:ext cx="1143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434340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The bunny found a 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very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big carr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3962520"/>
            <a:ext cx="746784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bcPrint"/>
              </a:rPr>
              <a:t>The big bear can’t get out of the 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little</a:t>
            </a:r>
            <a:r>
              <a:rPr b="0" lang="en-US" sz="4400" spc="-1" strike="noStrike">
                <a:solidFill>
                  <a:srgbClr val="9900cc"/>
                </a:solidFill>
                <a:latin typeface="AbcPrint"/>
              </a:rPr>
              <a:t> ho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4648320"/>
            <a:ext cx="990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190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3-02T13:02:42Z</dcterms:modified>
  <cp:revision>18</cp:revision>
  <dc:subject/>
  <dc:title>Guess the Covered Word</dc:title>
</cp:coreProperties>
</file>